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You%20ugly%20when%20yur%20angry.wav" ContentType="audio/x-wav"/>
  <Override PartName="/ppt/media/image20.jpeg" ContentType="image/jpeg"/>
  <Override PartName="/ppt/media/image11.wmf" ContentType="image/x-wmf"/>
  <Override PartName="/ppt/media/image6.wmf" ContentType="image/x-wmf"/>
  <Override PartName="/ppt/media/image3.wmf" ContentType="image/x-wmf"/>
  <Override PartName="/ppt/media/image10.wmf" ContentType="image/x-wmf"/>
  <Override PartName="/ppt/media/image5.wmf" ContentType="image/x-wmf"/>
  <Override PartName="/ppt/media/camera.wav" ContentType="audio/x-wav"/>
  <Override PartName="/ppt/media/image22.png" ContentType="image/png"/>
  <Override PartName="/ppt/media/image23.wmf" ContentType="image/x-wmf"/>
  <Override PartName="/ppt/media/james%20brown%20I%20feel%20good.wav" ContentType="audio/x-wav"/>
  <Override PartName="/ppt/media/image4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bad%20to%20the%20bone.wav" ContentType="audio/x-wav"/>
  <Override PartName="/ppt/media/image2.wmf" ContentType="image/x-wmf"/>
  <Override PartName="/ppt/media/dino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C0DD-9043-451F-8127-937FAB6E0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EFBA-2DFA-4EAB-B104-2E70CDF07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5FA4-34B9-40F2-8984-138C0B597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1572-F388-48F0-A5FF-9D4E1EF13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50E4-F043-4442-A1EC-BDE8B11B8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603D-9E7A-4489-9330-66C06635D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1A7D-A397-4F18-88EB-6FFE11916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EADB-C507-4862-B5E5-C5ECEFBF3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B050-96C7-4048-9150-C4A1B9894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AED8-DEEE-4394-B389-02E5F3B9C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AECC-7683-4DF4-8E5D-05A1ADAFA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7CF4-F00A-412B-9895-D7BD7F12B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710A-14CF-4B21-B23F-02833E9C4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E782-7927-4361-BA31-5502C8FA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BAD0-E4DA-49F9-B783-B75426B8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2CE5-E354-489D-8354-D1735E894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EEDB-01FF-4216-8245-E1BCA8ACE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3D94-8D1A-4CF8-B879-64F379477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8149-60A7-4CF0-85D2-95B3A7402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9731-98E4-4AF0-B6F1-4A70B26A0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DB23-1B0E-484A-BE34-B072155EC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7DB0-A025-4BC8-9DCB-508D69706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0999-45EE-462D-A6C5-EEBC4B5CB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6896-7424-4CBF-A6AD-71971B9CD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7116-0ECA-4026-9C0D-C817C5FA5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2775-5578-44B2-B2FC-FCBA6F407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5211-40DC-4256-9036-E59911EEF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1142-A502-4476-8494-FA1E5CFD8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3FD2-52D3-40AE-963B-A724B47CC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8BBA-8262-430F-965E-E6AC583B8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11EA-7D6A-4262-909B-FB68F39CC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C1DE-CC60-4C9C-ADAA-6F5BAEFCB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5A5E-2AC7-4E0F-9BA7-1EA773B97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A7C4-713E-462B-B530-9A7050297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CCD2-7C0F-4699-88E1-28988F4FB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E5F2-4C01-4813-B9D4-A46782518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7328-D1BC-46A8-A2E6-6CFE567FD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AC17-F439-40A5-A818-E46AD4E2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EFE-052F-4CFA-8F39-49810ADF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C6A-EA1A-425B-B68F-1DE5A239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6EE-4803-4A0A-854A-178811AB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752-5287-4F92-A42B-D4667081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31E-FEB7-4A0F-83BF-8B40BE2D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0A6-891A-45DF-904A-840BE940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F75-4743-4CEF-873E-6BA8AE48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527E-AC95-40A6-B278-795B76C2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47B-13CE-4F04-86DD-4E73577D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59B-C0F5-4EF9-8A1F-B651A39F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306-D947-4AA8-A835-85EE59C5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56DF-EC72-430A-A03C-8C50BD336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audio" Target="../media/bad%20to%20the%20bon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audio" Target="../media/dino1.wav"/><Relationship Id="rId4" Type="http://schemas.openxmlformats.org/officeDocument/2006/relationships/audio" Target="../media/You%20ugly%20when%20yur%20angry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audio" Target="../media/james%20brown%20I%20feel%20goo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2819520" y="1676520"/>
          <a:ext cx="3423960" cy="28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676520"/>
                    <a:ext cx="342396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858E-EA18-4494-BF9E-998718239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a range of feelings including ang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i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alou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-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600200" y="3733920"/>
            <a:ext cx="2057400" cy="1218960"/>
          </a:xfrm>
          <a:prstGeom prst="rightArrow">
            <a:avLst>
              <a:gd name="adj1" fmla="val 50000"/>
              <a:gd name="adj2" fmla="val 421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53B1-2805-4963-9903-B0BF70150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am in charge of my own feeling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5262480" y="2178000"/>
          <a:ext cx="3424320" cy="28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2480" y="2178000"/>
                    <a:ext cx="342432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5"/>
          <p:cNvSpPr/>
          <p:nvPr/>
        </p:nvSpPr>
        <p:spPr>
          <a:xfrm>
            <a:off x="457200" y="3505320"/>
            <a:ext cx="472428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own my feel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okay to feel ang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er is part of being hu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earn how to express my anger in helpful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trips dir="l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2E6B-37D3-4618-8498-20156EBD6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aggressive acts shown by self and oth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w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ck someone or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in someone’s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ving, grabbing, h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someon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someone a dirty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others to “gang u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rum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1600200" y="3809880"/>
            <a:ext cx="1523880" cy="1371600"/>
          </a:xfrm>
          <a:prstGeom prst="rightArrow">
            <a:avLst>
              <a:gd name="adj1" fmla="val 50000"/>
              <a:gd name="adj2" fmla="val 277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trips dir="l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3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79EE-0A08-48C9-B7C8-8E1147AEF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33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choose to feel good about myself through expressing my feel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E07017_"/>
          <p:cNvPicPr/>
          <p:nvPr/>
        </p:nvPicPr>
        <p:blipFill>
          <a:blip r:embed="rId1"/>
          <a:stretch/>
        </p:blipFill>
        <p:spPr>
          <a:xfrm>
            <a:off x="5262480" y="2019240"/>
            <a:ext cx="2774880" cy="33530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304920" y="4114800"/>
            <a:ext cx="5410080" cy="27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express angry feelings in ways that are fair to others and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use fair words…e.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feel when yo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1EF6-9179-4146-898A-2C7D81CC1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987480" y="1851120"/>
          <a:ext cx="311472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1851120"/>
                    <a:ext cx="311472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14800" y="1447560"/>
            <a:ext cx="5029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ore I learn to take care of  my anger the more powerful I be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267080" y="3886200"/>
            <a:ext cx="441972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need to control what I do with my an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ontrol how I let my anger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ractice cooling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tch my thou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trips dir="r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3071-CE87-4C18-9716-D7A331154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the difference betwee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Black"/>
              </a:rPr>
              <a:t>ANG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 Black"/>
              </a:rPr>
              <a:t>AGG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g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emotion.  It is ok to be ang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Agg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cting out inappropriately and is not ok.  Learn to check your aggression and express your anger appropria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trips dir="ru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773B-76DB-4C6B-82DD-380005527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ys to Keep C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exercise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enough sl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to rela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your feel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bout those feel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21AE-5072-4A9D-BD27-6FD75A386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s to Keep Co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 quiet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time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fun dist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good decisions about what you see and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friends who make you feel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to forgive and forg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CA59-C191-46B6-8D62-B25ED2100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potential consequences of your anger to others and yourself…what can that mean for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harm to someone or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uction of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family/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social privile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to j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bad re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 flipV="1">
            <a:off x="3048120" y="4800600"/>
            <a:ext cx="1295280" cy="581040"/>
          </a:xfrm>
          <a:prstGeom prst="rightArrow">
            <a:avLst>
              <a:gd name="adj1" fmla="val 50000"/>
              <a:gd name="adj2" fmla="val 5573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newsflash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025A-DE5F-4653-B3CC-993164F0B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self-destructive behavior…How does that help or hur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self-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ming everyone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everything pers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eating, dr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reckles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for f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ing out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2743200" y="4267080"/>
            <a:ext cx="1204920" cy="638280"/>
          </a:xfrm>
          <a:prstGeom prst="rightArrow">
            <a:avLst>
              <a:gd name="adj1" fmla="val 50000"/>
              <a:gd name="adj2" fmla="val 471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Bar dir="horz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95B1-D008-412F-AFBE-28851BEDF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 (Power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 (Power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EBFA-B922-44D3-A417-FCFD41608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stop blaming others and my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ming only keeps people up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ming is a way of not respecting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express my feelings and then try to work things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5102280" y="2286000"/>
          <a:ext cx="3584520" cy="28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2280" y="2286000"/>
                    <a:ext cx="3584520" cy="28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EEBC-5A94-48EC-8421-9DACAA852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thoughts prior to aggressive a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43400" y="159984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did that on purpo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ed to hurt 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deserve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ver even asked 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re being unreasonab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think you’re so goo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ll show you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tarted 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’s no justi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3124080" y="3886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26D7-995A-4F1C-840B-9EC4A52C5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internal cues to feelings of ang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mach gets tight/u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t is beating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nching f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myself getting flu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on my te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aty pa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nched j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429000" y="3657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69C4-1061-43F3-96C2-47235703C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don’t have to hold on to my a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find ways to let it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alk about hurt and angry feel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ok for someone to discuss my an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discuss my words and actions that hurt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5502240" y="1600200"/>
          <a:ext cx="2917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2240" y="1600200"/>
                    <a:ext cx="2917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9FB4-E705-44C3-985E-88BF6EB68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s to taming 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what pushes your butt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your body’s anger sig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and thin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ge your rage…it’s your ch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at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5181480" y="2817720"/>
          <a:ext cx="322740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817720"/>
                    <a:ext cx="322740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89EB-86AE-414E-9268-E5E31D697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take po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tand up for myself and others being hu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earn to defeat negative self-t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feel good about learning about my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strong when I use fair and firm words instead of f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5021280" y="2217600"/>
          <a:ext cx="3665520" cy="29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1280" y="2217600"/>
                    <a:ext cx="36655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C68C-3BA7-4AEE-91CE-41749B651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remember that people are prec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tch my thoughts, words, and 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top hurting people with my words and 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ake ownership of the hurtful things I do and s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lying” hurts every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5102280" y="2819520"/>
          <a:ext cx="3584520" cy="18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2280" y="2819520"/>
                    <a:ext cx="358452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AA2E-296A-4B16-999C-5B54F7203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52640" y="1294920"/>
            <a:ext cx="403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m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k the best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gratulate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changes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457200" y="2898720"/>
          <a:ext cx="3836880" cy="20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98720"/>
                    <a:ext cx="383688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D24F-B779-4A14-8E1D-79D3CE52F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you identify any of the steps in resolving conflict, controlling your anger and avoiding aggressive behavio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…(then cli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A7E9-E1AF-4F7F-8FCE-AC68C2FD8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lm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how mutual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ame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n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hoose the best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ngratulate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view the solution that was pi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u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D0BE-4D2E-4628-A13C-E146D3B11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~ STATISTICS 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5% of the Nation’s Elementary Teachers were attacked by students!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.S. Dept of Education 1999-2000 school ye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 of the Nation’s Elementary Expulsions were for bringing firearms to school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.S. Dept of Education 1998-1999 School Ye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CFF8-A82F-4C26-AC50-0DE08F359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ow that YOU understand the mechanics of Anger Management,,, How Does this relate to YOUR Students in Elementary Sch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l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006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2338560" y="3014640"/>
            <a:ext cx="44668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ceAgeD"/>
              </a:rPr>
              <a:t>Anger Manag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ceAgeD"/>
              <a:ea typeface="IceAgeD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309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5562720" y="3733920"/>
            <a:ext cx="2814480" cy="3124080"/>
          </a:xfrm>
          <a:prstGeom prst="rect">
            <a:avLst/>
          </a:prstGeom>
          <a:ln w="0">
            <a:noFill/>
          </a:ln>
        </p:spPr>
      </p:pic>
      <p:pic>
        <p:nvPicPr>
          <p:cNvPr id="184" name="bad to the bone.wav" descr=""/>
          <p:cNvPicPr/>
          <p:nvPr/>
        </p:nvPicPr>
        <p:blipFill>
          <a:blip r:embed="rId3"/>
          <a:stretch/>
        </p:blipFill>
        <p:spPr>
          <a:xfrm>
            <a:off x="60948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d%20to%20the%20b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2B00-9E32-4D8B-8FCF-93CD1448E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n you are ANGRY and UPSET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ember…</a:t>
            </a:r>
            <a:br>
              <a:rPr sz="4400"/>
            </a:b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1-2-3 TURT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1676520" y="2666880"/>
            <a:ext cx="6324480" cy="41846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o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You%20ugly%20when%20yur%20ang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AEB4-FC44-4B55-B5C1-7A85F1AE0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1 – Go inside your sh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 before you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a “Time Ou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5181840" cy="3981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3"/>
          <a:stretch/>
        </p:blipFill>
        <p:spPr>
          <a:xfrm>
            <a:off x="7621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5" dur="25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01EC-6B88-42EF-BD62-3F9777F06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to REL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m yourself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535320" y="457200"/>
            <a:ext cx="8117640" cy="5906880"/>
            <a:chOff x="535320" y="457200"/>
            <a:chExt cx="8117640" cy="5906880"/>
          </a:xfrm>
        </p:grpSpPr>
        <p:pic>
          <p:nvPicPr>
            <p:cNvPr id="196" name="Picture 4" descr=""/>
            <p:cNvPicPr/>
            <p:nvPr/>
          </p:nvPicPr>
          <p:blipFill>
            <a:blip r:embed="rId2"/>
            <a:stretch/>
          </p:blipFill>
          <p:spPr>
            <a:xfrm>
              <a:off x="686160" y="2865240"/>
              <a:ext cx="779616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5"/>
            <p:cNvSpPr/>
            <p:nvPr/>
          </p:nvSpPr>
          <p:spPr>
            <a:xfrm>
              <a:off x="535320" y="457200"/>
              <a:ext cx="811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8000"/>
                  </a:solidFill>
                  <a:latin typeface="Times New Roman"/>
                </a:rPr>
                <a:t>2 – Take 3 Deep Breath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2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1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0293-9E49-4D05-A298-270914F64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nk of a good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2058840" y="309600"/>
            <a:ext cx="6150240" cy="6261120"/>
            <a:chOff x="2058840" y="309600"/>
            <a:chExt cx="6150240" cy="6261120"/>
          </a:xfrm>
        </p:grpSpPr>
        <p:pic>
          <p:nvPicPr>
            <p:cNvPr id="202" name="Picture 4" descr=""/>
            <p:cNvPicPr/>
            <p:nvPr/>
          </p:nvPicPr>
          <p:blipFill>
            <a:blip r:embed="rId2"/>
            <a:stretch/>
          </p:blipFill>
          <p:spPr>
            <a:xfrm>
              <a:off x="3809880" y="2819520"/>
              <a:ext cx="4091040" cy="37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5"/>
            <p:cNvSpPr/>
            <p:nvPr/>
          </p:nvSpPr>
          <p:spPr>
            <a:xfrm>
              <a:off x="2058840" y="309600"/>
              <a:ext cx="615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66"/>
                  </a:solidFill>
                  <a:latin typeface="Times New Roman"/>
                </a:rPr>
                <a:t>3 – Walk Away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circl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ames%20brown%20I%20feel%20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A6FB-0F1A-45B1-81BE-80EA73CEF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657600" cy="35971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achen BT"/>
              </a:rPr>
              <a:t>Good solutions other kids have u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l a teacher or an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lk i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 for ad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honest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diamond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16EB-0254-45CB-BE8E-A170B5E13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38080" y="3808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04920" y="533520"/>
            <a:ext cx="8458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28600" y="144792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ger management does not involve getting rid of all anger, but using anger to enhance your life. We can look at the purposes of anger in both a positive and negative ligh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ut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7C17-DDE9-42F1-955C-AB82681EF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38080" y="3808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04920" y="533520"/>
            <a:ext cx="8458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8600" y="144792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ositive aspects of anger are that you have increased energy, are able to communicate your feelings, able to problem solve and can take charge of the situa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D379-0DCC-401C-AE25-4A489FF4D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38080" y="3808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533520"/>
            <a:ext cx="8458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44792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egative aspects of anger are that you can have disruption of your thinking, unnecessarily defend yourself, become aggressive and become known as an angry pers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7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7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7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5390-7C2C-4D47-85B7-35AE7FD4B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838080" y="3808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04920" y="533520"/>
            <a:ext cx="8458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28600" y="1447920"/>
            <a:ext cx="8915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ger management would be seen then as increasing the positive aspects or functions of anger and decreasing the negative functions of ang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D4FB-6458-4E44-8D9B-5E3116694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38080" y="3808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533520"/>
            <a:ext cx="8458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28600" y="2286000"/>
            <a:ext cx="8915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 now,,, you have a student that is displaying a lot of ANGER!  Now What do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0075-F0A7-4511-A07B-F586B1DEB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 Black"/>
              </a:rPr>
              <a:t>ANGE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 needed in dealing wi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g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 range of feelings including 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ggressive acts by self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otential consequences to self and others from these aggressive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elf-destructiv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oughts prior to aggressive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nal cues to feelings of 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ping mechanisms for dealing with 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anger without loss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19:25:43Z</dcterms:created>
  <dc:creator>xyz</dc:creator>
  <dc:description/>
  <dc:language>en-US</dc:language>
  <cp:lastModifiedBy>Bright</cp:lastModifiedBy>
  <dcterms:modified xsi:type="dcterms:W3CDTF">2013-08-22T10:11:49Z</dcterms:modified>
  <cp:revision>79</cp:revision>
  <dc:subject/>
  <dc:title>ANGER MANAGEMENT</dc:title>
</cp:coreProperties>
</file>